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91F-9644-4829-8D16-2E1E7119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BEA-C91B-4B26-BDAA-0B12483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E84-7322-4397-832B-3B8472AC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14A-B312-4F0F-A9E7-AE0FFD1C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C9E5-1A7C-4825-95DE-AD84B634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A27-10A4-4315-ABC8-14EA4E44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5D9-697A-415B-A328-D9778C39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B2FB-51C8-49C5-83DC-4C80B1ED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E9FC-AC89-4B9C-9FAF-89FD6BF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FF0-E4BC-4ED5-9CF0-0D626BA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AD76-B787-4892-8110-E677032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6C8-C7E5-4D2C-A386-1BC6299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1509-805E-4B6F-AB9D-5381886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6707-7014-4229-A4A9-22B60DE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EE7F-02F7-4CE4-81A2-A2E83793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50D-F6EF-468B-8FE9-0C50230F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EDEC-FEA2-4CB7-AE9B-50A0F094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74B-0742-46C1-804E-7C3336D4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BFA-3B86-43EB-AC05-B716AD98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5C3-947E-4EF6-A459-17A08DA1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6A3-1839-4B27-BE2F-67DFD42E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5F3-A32B-4D2B-9FD3-2474340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A1D-434A-48C3-8F2D-A915DD2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AFA-75F6-42DB-A1BB-2F37332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CE6-E78A-424A-8800-D1D64DD2BB0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AC9-4249-4703-BC47-AA79BC8968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04D-FCED-4EF9-935C-A3F6FAC91F5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FEC2-27D8-4F46-95AE-99587C8E8A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Ulysses_Grant_1870-1880.jpg" TargetMode="External"/><Relationship Id="rId3" Type="http://schemas.openxmlformats.org/officeDocument/2006/relationships/hyperlink" Target="http://upload.wikimedia.org/wikipedia/commons/d/d7/Ulysses_Grant_1870-1880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en/f/fa/The_First_Vot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Klan-in-gainesville.jpg" TargetMode="External"/><Relationship Id="rId3" Type="http://schemas.openxmlformats.org/officeDocument/2006/relationships/hyperlink" Target="http://en.wikipedia.org/wiki/Image:Klan-in-gainesville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.  Reco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period following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from 1865 to 18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refers to the process the federal government used to readmit the defeated Confederate states to th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09B-704B-4E27-BF4E-CAB2143AFC3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F0494-CB0C-4555-9D53-D708A310F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.  1868 E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ysses S. Grant elected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 votes in South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political experienc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president = carry out laws, not mak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nd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Image:Ulysses Grant 1870-188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4C5-06D2-487A-B5AF-ED484E9BA1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FDE1E-3275-4D8A-A9A0-A56B66353E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.  1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endment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7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rights extended to all citizens regardless of “race, color, or previous condition of servitu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Image:The First Vot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3625920" cy="4415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964-5A76-4B45-8247-A897B72C88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F3B9E-7FD6-4ABA-9BE4-D5D70C06E4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s become instrumental during the Civil Rights Movement during the 1950’s-197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Image:Martin Luther King Jr NYWTS.jpg"/>
          <p:cNvPicPr/>
          <p:nvPr/>
        </p:nvPicPr>
        <p:blipFill>
          <a:blip r:embed="rId2"/>
          <a:stretch/>
        </p:blipFill>
        <p:spPr>
          <a:xfrm>
            <a:off x="4876920" y="990720"/>
            <a:ext cx="3514680" cy="426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F52-76BD-4FB1-93D1-69BCFAEBF6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3F509-9216-4389-B17A-008ACAFE2B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.  Reconstructing  Soci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Econom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ru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raised to help rebu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white adult males killed; popul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Poli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wags : white southerners who joined Rep.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etbaggers : Northerners who moved s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Americans: able to participate and run for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4BB-72E5-41EF-A93A-DE41E10984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89F14-9EDF-449C-8AAF-87FA451E1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.  Former sla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ration to southern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going to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their own churches; ministered became political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1889280" cy="187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406520" cy="126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3139920" cy="1755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91E-4076-4A23-8955-F6726471E1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AA6DC-F368-4F8E-B956-FA05137600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 Acres and a M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d sl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ght for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 acres and a m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 Johnson revokes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3391200" cy="3322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362320" y="3833640"/>
            <a:ext cx="4114800" cy="302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5B8-8080-4535-9819-5F39E08034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E7E8A-AD1D-4E93-B210-7DE11CFFA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Reconstruction Collap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White southerner’s frustration with AA and govt = Ku Klux Klan (KK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G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oy Republican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re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planter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AA from exercising political r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Members of the second Ku Klux Klan at a rally in 192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2286000"/>
            <a:ext cx="3429000" cy="2765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6AF-7657-4502-AB8D-829E0164D1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66342-3289-4370-A690-80B519E3FA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.  Redeeming of the S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Democrats back in power in gov’t &amp; 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therford B. Hayes becomes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sident, 1876 (Republic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ends with no real progress against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21200" y="1874880"/>
            <a:ext cx="803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Portrait of Rutherford B. Hayes"/>
          <p:cNvPicPr/>
          <p:nvPr/>
        </p:nvPicPr>
        <p:blipFill>
          <a:blip r:embed="rId2"/>
          <a:stretch/>
        </p:blipFill>
        <p:spPr>
          <a:xfrm>
            <a:off x="5181480" y="1295280"/>
            <a:ext cx="32562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3D7-44FE-4D26-A33D-B41888966B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B3A9-AB3A-43D9-B719-55EAE5FAA7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.  Sharecro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467480" cy="460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763-28E8-41F3-BDEF-7EF275BC1A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E9204-1EA8-4323-A4A2-E57557DF2E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id the 1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mendment st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id 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mendment st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ere the failures and successes of reconstru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793-90A2-4ABE-993E-8271BE5446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7E9C5-AC4F-4E37-A174-6123156F48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 Lincoln’s 10 %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0% of voting population needed to swear allegiance to Union; except high ranking offic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ratif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78E-F1DB-427C-A906-B4CCE8FB7D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5235B-D519-493B-9BA0-1A370CEC10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 Radical Republic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confederate leaders from holding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A achieve political e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with votes for Republ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. Stev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. Sum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183996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53080" y="3809880"/>
            <a:ext cx="1973520" cy="2252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A5F-A382-4B38-B941-86EAE4DF7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54E6-9AA7-4027-8525-00CEE3FDEE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 Freedmens’ Bur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File:Freedman's bureau.jpg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5715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6E9-8DD0-4089-B386-2A7EACF290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2E712-0594-4C9C-89CE-571B4166A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 Freedmens’ Bur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Agency to help A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706920" cy="461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591-68AD-429F-9950-1328171794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9A3E2-A137-4900-9655-96FB1C57E2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m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462-14D8-4D8C-948B-CCD591F146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91DD3-170B-416A-BB35-D7527D2CC7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Andrew Johns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65-1869/Democr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31636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EFE-4657-4EEF-AD47-6D2DAEF2EB5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6E27E-30E5-4916-822E-3E8AB67466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 Johnson’s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same as Lincoln’s but eventually pardons military and gov’t offi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more lenient than Lincoln with confederate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outhern states elected congressmen who previously held positions in Confederate army and go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odes implemented and supported by the southern gov’t; slave-like con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D4A-9509-401E-9376-670A8E1720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94473-7B93-422B-8714-88393DB50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.  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endment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6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hip extended to “all persons born or naturalized in the United Stat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process…”  Equal protection of the laws for every citi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wn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681-CB4B-4F15-9720-447715677F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C02E5-1AFD-48E2-8DDE-5D6C7191E4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2:59:06Z</dcterms:created>
  <dc:creator> </dc:creator>
  <dc:description/>
  <dc:language>en-US</dc:language>
  <cp:lastModifiedBy>School District U46</cp:lastModifiedBy>
  <dcterms:modified xsi:type="dcterms:W3CDTF">2011-09-13T19:53:57Z</dcterms:modified>
  <cp:revision>15</cp:revision>
  <dc:subject/>
  <dc:title>Reconstruction</dc:title>
</cp:coreProperties>
</file>